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B3D-850A-4452-ABFD-5F4B6209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789-6463-4390-BB85-791DC81A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2CD-595F-4FBE-BDBD-82B8722C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257-879D-4E84-B8CC-14E97CC6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FB2-B5F4-43DA-8CD3-625AD74E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27F-8E28-4450-8469-2CB2AE0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207E-2A30-4743-A9FB-75EAEF4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A7A-4014-41B9-94B8-31AF868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7C84-95CE-47BC-B553-9E8308D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44EF-76CB-4734-9C4B-BACEE97E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4EF-8B88-44E3-B616-327B1AF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1B4-9D9B-45D5-8A19-EF67E3E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9B4-5AB4-444E-899E-983645C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3FBB-3C68-4628-A366-0252BA5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0A34-E2AB-4C1F-879D-C1A1B4B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6333-5492-4D5D-BE36-AD0592F1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0E46-3A36-430C-B491-92965043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27B5-058F-4551-B4A6-F2B513F0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913C-6CA8-4DFA-B982-719D0560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F024-34FD-4469-B215-AFFC2C9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76AC-1BE9-4538-9D4F-C753B2F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303E-B224-4402-B6EC-B560EE5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543-DB5E-43FC-BE3C-9F103FC9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FE71-8293-483F-90F7-477090B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CC5C-94DE-450B-8AB2-F78DF63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2250-0D6A-4AB7-848C-2B61EF9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ECAB-D3DA-403D-ADC1-B549F5C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6618-4BAE-439A-953F-A206473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4A0E-5A73-4DBD-ABEB-CAE0E393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1475-4A47-4B0E-A68F-B9B4A14A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1374-B8DB-438C-B853-E186F8F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7ED7-6751-4AF6-9D32-5D567C4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45EF-440A-4048-B864-D0F1E88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17D-B412-49FC-A1F3-716B0D30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C04A-C12B-45FD-B756-85C4BBCB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CD9B-A492-4B6A-A2DC-37F644E9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5A49-3DF7-40E5-9135-90F04D1A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EFC2-935B-49FC-95AC-A775938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B4C7-A7C6-46F6-8B35-1C90ECC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6DF6-FD35-4458-ADC7-C8E9913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A7D8-4797-4DF0-B452-32B8CFA6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F8EE-2E59-4DB3-B460-E8A590C6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AC25-E4DC-485C-B8DB-C2F80F4E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97F-3933-406E-B308-E84D268D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C79-75EB-4936-976F-74A3E53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804-2555-43D2-91FF-ACFDABA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A11-7992-4B65-8495-B6C4327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439-76AF-4286-885F-9996F0E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DA82-84EE-4A84-B068-5CAC2A538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7C2-72E9-4BBE-8EE6-9B2320213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AAF-07A9-42EB-AB90-DE2425753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63B-0301-4EC7-A04D-F03817D63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k12onlineconference.org/docs/k12online06-agenda.html" TargetMode="External"/><Relationship Id="rId3" Type="http://schemas.openxmlformats.org/officeDocument/2006/relationships/hyperlink" Target="http://www.umanitoba.ca/learning_technologies/connectivisim/" TargetMode="External"/><Relationship Id="rId4" Type="http://schemas.openxmlformats.org/officeDocument/2006/relationships/hyperlink" Target="http://www.umanitoba.ca/learning_technologies/connectivisim/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davidwarlick.com/2cents/" TargetMode="External"/><Relationship Id="rId3" Type="http://schemas.openxmlformats.org/officeDocument/2006/relationships/hyperlink" Target="http://davidwarlick.com/2cents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TAPIV_Cybersafety1_20_07.ppt" TargetMode="External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earningtimes.org/" TargetMode="External"/><Relationship Id="rId3" Type="http://schemas.openxmlformats.org/officeDocument/2006/relationships/hyperlink" Target="http://learningtimes.org/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7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-12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nectivism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owing community of authors who blog to share ideas around educational technology and other educatio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vid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ar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11210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520040" y="3809880"/>
            <a:ext cx="11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2209680" y="5029200"/>
            <a:ext cx="968400" cy="141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ny on-line book(lets) are being published and made available for free on the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stly written in collaborativ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ing of Age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An Introduction to the NEW worldwide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sson Plan Idea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lessonplanspag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school.discovery.com/lesson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each-nology.com/teachers/lesson_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microsoft.com/Education/LessonPlans.msp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nger and younger children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ing on-line materials –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types of risky behaviors ar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eing with our young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st what can we do to make su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ve the safest environment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/ Tech Integration Plans 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Presentations start Monday, March 1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 Safety; The role of the scho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It Yourself" Professional Development &amp;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Keeping our Children Safe on the Net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yber-safet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84800" y="533520"/>
            <a:ext cx="3498840" cy="525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Keeping Our Children Saf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86104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rsonal Professional Development for Teachers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sonal Professional Develop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as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es / Courses /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–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growing opportunities in asynchronous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echnology Assisted On-lin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du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Books /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in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seminars /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time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erences delivered on-line (audio and vide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ey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e and Archived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27T14:55:51Z</dcterms:modified>
  <cp:revision>38</cp:revision>
  <dc:subject/>
  <dc:title>Welcome to  ED3862</dc:title>
</cp:coreProperties>
</file>